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D6C59-71E4-4366-B48E-8E99F8D2A84B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2A1C9-2508-4164-9F0E-5DA48AE20D2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24C92-642B-4FC2-A321-92C663E21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A0902-A87D-4FAD-A256-99A125A5C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DB71C-1A45-467B-A486-266791EFA67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Vai parādās kopīgas tend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3DE8E-E02A-48DA-B198-B33EB909889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A9739-5238-4799-83C0-6D2AC042A46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6F27B-A5E0-4823-9BEB-DFDA029F5AA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CEF45-EA34-4C59-BA27-CACE9F6F336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FF891-8685-45CF-8EFE-2A6D4C327C3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9D7B9-80B9-4925-B04F-02A562E33A1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rāta vēt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01862-5D42-4B9B-AA1F-127FFE1619F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8C8BA-0902-48BA-A6A2-EF84C5169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26AE-784E-4548-9C01-B8A734BC2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2485-D666-439E-AD08-6242D58A7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C816-4D8A-463B-99DE-E7D309BA7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196A-C9D7-4247-88AC-5E8CB1736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90302-5B05-4B84-A907-C04BF28F1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1C536-4A9C-4729-84CD-54B84E885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42AC3-F1A6-402A-A2B7-27BECD9A9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C3B89-FD22-4A0B-9D22-46BC0D6B8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44063-686D-4ED2-86B0-F93490143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3F1FE-54CA-4C00-8A5D-4C3B72938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464AA-92B5-478E-92F3-09F49FE3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409E-8BDC-4370-A72E-5A37823F2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336B5-FD26-426B-A15D-3608CE40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B6837-AF8E-49AE-8817-3859602B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5A008-9E31-4221-89C5-1E26454B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E8EC6-DC03-46D8-A402-6808D637F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58D90-260C-4A87-84B8-32F734B94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7697-82E3-4C39-8EC9-B48BDE0AF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A04D-42B6-44A4-B017-FA92D7EDF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71B7-1DA1-4A5F-A2F8-C5BAD6289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1339-5244-497D-8221-918B8602A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BDC8-7D16-4228-9FB2-61D4B881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62C5-BA6A-4541-8EAC-26293AD8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C708-8537-4153-BA2E-A22DB800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11FC9-8714-4539-9B9F-66010951624A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6045D-9275-4140-AAF8-AFDDEA1B3411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 iepazīt sev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5.-7.klašu 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avadīšana kopā ar draugi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skarsme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organizēt cit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sadarbo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nfliktu risinā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aust savas idej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BRĪVAJĀ LAIKĀ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vas istabas sakārt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bildības uzņem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beigt iesākto darb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ikt vienveidīgus uzdevum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ivēt se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ūpīgum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IKDIENAS PIENĀKUMO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MANAS INTERES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258920" y="1700280"/>
          <a:ext cx="6769080" cy="1677960"/>
        </p:xfrm>
        <a:graphic>
          <a:graphicData uri="http://schemas.openxmlformats.org/drawingml/2006/table">
            <a:tbl>
              <a:tblPr/>
              <a:tblGrid>
                <a:gridCol w="3589200"/>
                <a:gridCol w="3179880"/>
              </a:tblGrid>
              <a:tr h="1218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darbošanās/uzdevum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 patīk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RASMJU ANALĪZ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706320" y="1700280"/>
          <a:ext cx="7993080" cy="1555560"/>
        </p:xfrm>
        <a:graphic>
          <a:graphicData uri="http://schemas.openxmlformats.org/drawingml/2006/table">
            <a:tbl>
              <a:tblPr/>
              <a:tblGrid>
                <a:gridCol w="3218040"/>
                <a:gridCol w="2327040"/>
                <a:gridCol w="2448000"/>
              </a:tblGrid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darbošanās/uzdevum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 patīk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 </a:t>
                      </a:r>
                      <a:r>
                        <a:rPr b="1" lang="lv-LV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doda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7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713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400" spc="-1" strike="noStrike">
                <a:solidFill>
                  <a:srgbClr val="800080"/>
                </a:solidFill>
                <a:latin typeface="Calibri"/>
              </a:rPr>
              <a:t>KĀDĀS PROFESIJĀS NEPIECIEŠAMAS MANAS STIPRĀS PUSES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50920" y="1844640"/>
          <a:ext cx="8713800" cy="1890720"/>
        </p:xfrm>
        <a:graphic>
          <a:graphicData uri="http://schemas.openxmlformats.org/drawingml/2006/table">
            <a:tbl>
              <a:tblPr/>
              <a:tblGrid>
                <a:gridCol w="4357440"/>
                <a:gridCol w="4356360"/>
              </a:tblGrid>
              <a:tr h="946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as stiprās pu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fesijas, kurās tās nepieciešam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ešvalodu zināšan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lks, tulkotājs, skolotājs, diplomāts, gids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893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KTIVITĀTES, KURAS VEICINA </a:t>
            </a:r>
            <a:br>
              <a:rPr sz="3200"/>
            </a:b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PRASMJU ATTĪSTĪBU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4000" y="1483920"/>
            <a:ext cx="864072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Piedalīšanās interešu pulciņos, organizācijās, skolēnu apvienībās un klubos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Piedalīšanās mācību priekšmetu olimpiādēs vai sporta sacensībās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Papildu apmācība un prasmju attīstības kursi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Ikdienas pienākumi ģimenē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Brīvdienu ceļojumi 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Dažādu materiālu sagatavošana, kam nepieciešama informācijas vākšana un atlase, kā arī secinājumu izdarīšana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Runu un prezentāciju sagatavošana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Piedalīšanās grupas darbā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Mūsdienu informācijas tehnoloģiju izmantošana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ES ATTĪSTĪŠU SAVAS INTERESES UN STIPRĀS PUS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50920" y="1700280"/>
          <a:ext cx="8640720" cy="2927160"/>
        </p:xfrm>
        <a:graphic>
          <a:graphicData uri="http://schemas.openxmlformats.org/drawingml/2006/table">
            <a:tbl>
              <a:tblPr/>
              <a:tblGrid>
                <a:gridCol w="2879640"/>
                <a:gridCol w="3600360"/>
                <a:gridCol w="2160720"/>
              </a:tblGrid>
              <a:tr h="823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as stiprās pu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varētu darīt, lai tās attīstī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apņemos darī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1640">
                <a:tc row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rbs ar dator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meklēt fakultatīvās nodarbīb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1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dziļināti apgūt darbu ar </a:t>
                      </a:r>
                      <a:r>
                        <a:rPr b="1" i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d</a:t>
                      </a: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1" i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l</a:t>
                      </a: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un </a:t>
                      </a:r>
                      <a:r>
                        <a:rPr b="1" i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werPoin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2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esaistīties programmēšanas konkurs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1" name="Picture 8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3851280" y="450864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Saprast, kāpēc, plānojot karjeru, svarīgi iepazīt sev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emācīties analizēt savu ikdienas pieredzi, lai labāk apzinātos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 veidus, kā attīstīt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24000" y="1452600"/>
            <a:ext cx="86868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āpēc ir svarīgi iepazīt sevi pirms plānot karjer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</a:t>
            </a:r>
            <a:r>
              <a:rPr b="1" lang="de-DE" sz="2600" spc="-1" strike="noStrike">
                <a:solidFill>
                  <a:srgbClr val="1f497d"/>
                </a:solidFill>
                <a:latin typeface="Arial"/>
              </a:rPr>
              <a:t>arjeras plānošana</a:t>
            </a: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s soļ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ur un kā iegūt informāciju par sev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ā analizēt ikdienas pieredz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ā intereses un stiprās puses saistās ar profesijā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ā attīstīt savas intereses un stiprās pu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8000" y="3141360"/>
            <a:ext cx="90360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R SVARĪGI IEPAZĪT SEVI, </a:t>
            </a:r>
            <a:br>
              <a:rPr sz="4000"/>
            </a:b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LĀNOJOT SAVU KARJERU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3" descr="Meitene.png"/>
          <p:cNvPicPr/>
          <p:nvPr/>
        </p:nvPicPr>
        <p:blipFill>
          <a:blip r:embed="rId1"/>
          <a:srcRect l="6868" t="4852" r="3846" b="2960"/>
          <a:stretch/>
        </p:blipFill>
        <p:spPr>
          <a:xfrm>
            <a:off x="4140360" y="1700280"/>
            <a:ext cx="836280" cy="1224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Puika.png"/>
          <p:cNvPicPr/>
          <p:nvPr/>
        </p:nvPicPr>
        <p:blipFill>
          <a:blip r:embed="rId2"/>
          <a:srcRect l="6868" t="4852" r="10714" b="2960"/>
          <a:stretch/>
        </p:blipFill>
        <p:spPr>
          <a:xfrm>
            <a:off x="5148360" y="1700280"/>
            <a:ext cx="772920" cy="1224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Puka_brille.png"/>
          <p:cNvPicPr/>
          <p:nvPr/>
        </p:nvPicPr>
        <p:blipFill>
          <a:blip r:embed="rId3"/>
          <a:srcRect l="6949" t="4852" r="2710" b="2960"/>
          <a:stretch/>
        </p:blipFill>
        <p:spPr>
          <a:xfrm>
            <a:off x="3132000" y="1700280"/>
            <a:ext cx="836640" cy="1224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Meitene_medicina_naked.png"/>
          <p:cNvPicPr/>
          <p:nvPr/>
        </p:nvPicPr>
        <p:blipFill>
          <a:blip r:embed="rId4"/>
          <a:stretch/>
        </p:blipFill>
        <p:spPr>
          <a:xfrm>
            <a:off x="4140360" y="4694400"/>
            <a:ext cx="804600" cy="1309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Puika_inzenieris_naked.png"/>
          <p:cNvPicPr/>
          <p:nvPr/>
        </p:nvPicPr>
        <p:blipFill>
          <a:blip r:embed="rId5"/>
          <a:stretch/>
        </p:blipFill>
        <p:spPr>
          <a:xfrm>
            <a:off x="5135400" y="4708440"/>
            <a:ext cx="1165320" cy="1312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Puka_brille_pavars_naked.png"/>
          <p:cNvPicPr/>
          <p:nvPr/>
        </p:nvPicPr>
        <p:blipFill>
          <a:blip r:embed="rId6"/>
          <a:stretch/>
        </p:blipFill>
        <p:spPr>
          <a:xfrm>
            <a:off x="2771640" y="4708440"/>
            <a:ext cx="12319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103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JĀŅEM VĒRĀ, PLĀNOJOT KARJER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50920" y="1412640"/>
            <a:ext cx="8208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nteresējoties, mēģinot, iesaistoties dažādās aktivitātē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Regulāri pārdomājot, kā ir veicies un apkopojot pieredz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mantojot pašizpētes grāmatas un metodikas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Konsultējoties ar Karjeras konsultantu vai Psiholog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taujājot draugus, ģimeni, radiniekus, skolotāj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IEGŪT INFORMĀCIJU PAR SEVI</a:t>
            </a:r>
            <a:r>
              <a:rPr b="0" lang="lv-LV" sz="36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balances,balancing,boxes,business concepts,businesses,characters,concepts,juggles,juggling,packages,people,precarious"/>
          <p:cNvPicPr/>
          <p:nvPr/>
        </p:nvPicPr>
        <p:blipFill>
          <a:blip r:embed="rId1"/>
          <a:stretch/>
        </p:blipFill>
        <p:spPr>
          <a:xfrm>
            <a:off x="7524720" y="2924280"/>
            <a:ext cx="14400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554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LŪDZIET APKĀRTĒJIEM SNIEGT JUMS ATGRIEZENISKO SAIT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o tu uzskati par manām stiprajām pusēm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as man būt jāattīsta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dā profesijā, tavuprāt, es varētu likt lietā savas stiprās puses? 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3" name="Picture 5" descr="business concepts,businesses,characters,concepts,flowers,gifts,giving,people,presents"/>
          <p:cNvPicPr/>
          <p:nvPr/>
        </p:nvPicPr>
        <p:blipFill>
          <a:blip r:embed="rId1"/>
          <a:srcRect l="0" t="25596" r="0" b="23235"/>
          <a:stretch/>
        </p:blipFill>
        <p:spPr>
          <a:xfrm>
            <a:off x="3059280" y="4508640"/>
            <a:ext cx="324144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UR IKDIENĀ IZPAUŽAS INTERESES, SPĒJAS, RAKSTURA ĪPAŠĪBA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Mācību stundā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tarpbrīž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adarbībā ar klasesbiedriem un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nterešu nodarbībās, hobij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Tiekoties ar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ildot mājas darbu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kdienas pienākumos ģimenē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Brīvajā laikā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...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6" name="Picture 5" descr="business concepts,businesses,characters,concepts,drawings,draws,happy faces,pencils,pens,people,smiley,smiley face,smiley faces,smileys,smilie,smilie face,smilie faces,smilies,smily,smily face,smily faces,smilys,writes,writings"/>
          <p:cNvPicPr/>
          <p:nvPr/>
        </p:nvPicPr>
        <p:blipFill>
          <a:blip r:embed="rId1"/>
          <a:stretch/>
        </p:blipFill>
        <p:spPr>
          <a:xfrm>
            <a:off x="6300720" y="3500280"/>
            <a:ext cx="23749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723960" y="1628640"/>
          <a:ext cx="7016760" cy="431496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inātnisko projektu rakstī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ācijas vākšanas un apkopošana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analizēt iegūto informācij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orprasmes (Word, Excel, Internets u.c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viešu valodas prasm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cizitā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MĀCĪBĀ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1T08:19:39Z</dcterms:modified>
  <cp:revision>345</cp:revision>
  <dc:subject/>
  <dc:title>Slide 1</dc:title>
</cp:coreProperties>
</file>